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BA52-BB08-4034-9752-D4911F1D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BE9-B843-4F48-B724-023CEDE1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EDB-3954-4425-8FB2-681CF79B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20A-F598-423C-BA7C-6CFB534E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D669-4E3D-409D-B290-6812C67C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644-0A3B-4BE5-BD2E-35C537E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9D3-550F-4ED0-B0B8-58B1444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BD1-A83A-4826-8564-F3606516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CAD5-349F-4423-AD4E-6663BB85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828-3CD9-4617-BEA6-1891FB4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CF3-A95A-4935-B40B-D25D70B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AAD-D65C-43F9-A15F-2B299BD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7CC6-4478-45B4-9278-BFE35A6FFF7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Što o struji otkriva njezino magnetsko djelov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ojnicu sa željeznom jezgrom zovemo elektromag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omagnete koristimo u velikim dizalicama, vratima perilice rublja ili zgrada, u električnom zvoncu, u zvučnicima, računalu ili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ni krug i magnetska ig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lo s magnetskom iglom, nakon što smo uključili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SnapShot(233).jpg"/>
          <p:cNvPicPr/>
          <p:nvPr/>
        </p:nvPicPr>
        <p:blipFill>
          <a:blip r:embed="rId4"/>
          <a:stretch/>
        </p:blipFill>
        <p:spPr>
          <a:xfrm>
            <a:off x="4643280" y="2276640"/>
            <a:ext cx="4316400" cy="24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 što nas otklon magnetske igle upuć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blizini strujnog voda, kojim protječe električna struja, postoji magnetno međudjelovan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napShot(234).jpg"/>
          <p:cNvPicPr/>
          <p:nvPr/>
        </p:nvPicPr>
        <p:blipFill>
          <a:blip r:embed="rId6"/>
          <a:stretch/>
        </p:blipFill>
        <p:spPr>
          <a:xfrm>
            <a:off x="4716360" y="2492280"/>
            <a:ext cx="42246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6840" y="2205000"/>
            <a:ext cx="8147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, nakon okretanja baterije, postavila magnetska ig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mjenom polova baterije mijenja se smjer magnetskog međudjelov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jača magnetna sila koja na nju djeluje, to se magnetska igla jače otkloni od smjera sjever – ju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nam omogućuje uporabu magnetskog međudjelovanja izazvanog električnom strujom u različitim mjernim uređaj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na zavojnica u strujnom kru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 s magnetskom iglom, kada zatvorimo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napShot(492).jpg"/>
          <p:cNvPicPr/>
          <p:nvPr/>
        </p:nvPicPr>
        <p:blipFill>
          <a:blip r:embed="rId5"/>
          <a:stretch/>
        </p:blipFill>
        <p:spPr>
          <a:xfrm>
            <a:off x="4716360" y="2421000"/>
            <a:ext cx="42246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mo li promijeniti magnetski pol magnetske igle kompasa, koji se približi zavojn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sada ponaša magnetska ig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SnapShot(497).jpg"/>
          <p:cNvPicPr/>
          <p:nvPr/>
        </p:nvPicPr>
        <p:blipFill>
          <a:blip r:embed="rId4"/>
          <a:stretch/>
        </p:blipFill>
        <p:spPr>
          <a:xfrm>
            <a:off x="4716360" y="2349360"/>
            <a:ext cx="42246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a struj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ma smje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koji se može promijeniti zamjenom polova bater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mjer električne struje po dogovoru jest od pozitivnog pola izvora električne struje, preko spojnih žica i trošila prema negativnom polu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crtajte jednostavan strujni krug i na njemu označite smjer stru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bismo mogli pojačati magnetsko djelovanje zavojni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strujna zavojnica s jezg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smo otkril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SnapShot(531).jpg"/>
          <p:cNvPicPr/>
          <p:nvPr/>
        </p:nvPicPr>
        <p:blipFill>
          <a:blip r:embed="rId5"/>
          <a:stretch/>
        </p:blipFill>
        <p:spPr>
          <a:xfrm>
            <a:off x="4284720" y="3573360"/>
            <a:ext cx="42242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5:41:42Z</dcterms:created>
  <dc:creator>Zdenka</dc:creator>
  <dc:description/>
  <dc:language>en-US</dc:language>
  <cp:lastModifiedBy>Zdenko</cp:lastModifiedBy>
  <dcterms:modified xsi:type="dcterms:W3CDTF">2014-07-18T09:22:17Z</dcterms:modified>
  <cp:revision>8</cp:revision>
  <dc:subject/>
  <dc:title>PowerPoint Presentation</dc:title>
</cp:coreProperties>
</file>